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4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9.gif" ContentType="image/gif"/>
  <Override PartName="/ppt/media/image30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C69-F2CD-4CDD-9ED6-B104FB8D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69D-2441-4C57-8DA5-0D6A7043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209-9A7C-4694-8B34-B463F9A4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825-9AB7-4DAB-A4B3-475219D7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047-D0DC-4F88-A48C-93B04956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09C-63A0-4D9C-B747-D1595FB2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C1A-DB10-4387-A5A5-4B5E1BC2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EFB-118D-4EED-B432-579FF43E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0F9-9B95-4F90-837C-80939716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283-CD70-4A97-8D98-44A6E4A5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751-B592-4C3C-A0AD-BF7479B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099-9865-4700-83E3-DC2A1097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7271-131C-401D-914D-7ABD073B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4005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сенние измен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ироде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1341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резент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2565360"/>
            <a:ext cx="61722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уроку окружающего ми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опасности могут подстерегать нас вес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7334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327960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16720" y="3789360"/>
            <a:ext cx="2208240" cy="2658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3314520" cy="2436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226120" y="1600200"/>
            <a:ext cx="288288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9640" y="404640"/>
            <a:ext cx="813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ссовый прилёт птиц. Гнездова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3887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яют (меняют шубку на летню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ыпаются от зимнего сна: медведи, барсуки, ежи, бурунду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ногих зверей появляются детён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476280"/>
            <a:ext cx="6792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встречают весну звери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916360" cy="218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59236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266364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енние изменения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97196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3"/>
          <p:cNvSpPr/>
          <p:nvPr/>
        </p:nvSpPr>
        <p:spPr>
          <a:xfrm>
            <a:off x="3000240" y="14288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Солнце выше над горизонтом, чем зи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3000240" y="27860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Дни стали длиннее; пот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571680" y="4071960"/>
            <a:ext cx="371448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не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На реках 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ттаивает поч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5143680" y="4071960"/>
            <a:ext cx="364320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Набухают п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яются ли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Цветение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ение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Возвращение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Изменения в жизни з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10"/>
          <p:cNvCxnSpPr/>
          <p:nvPr/>
        </p:nvCxnSpPr>
        <p:spPr>
          <a:xfrm flipH="1">
            <a:off x="4642560" y="2285640"/>
            <a:ext cx="2520" cy="500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2499840" y="3642120"/>
            <a:ext cx="57240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>
            <a:off x="6143400" y="3642840"/>
            <a:ext cx="68004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8" name="Прямая со стрелкой 21"/>
          <p:cNvCxnSpPr/>
          <p:nvPr/>
        </p:nvCxnSpPr>
        <p:spPr>
          <a:xfrm>
            <a:off x="4286160" y="5428800"/>
            <a:ext cx="85824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5000400" cy="37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771640" y="189000"/>
            <a:ext cx="3429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на дом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24280"/>
            <a:ext cx="6096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ить кроссворд на тему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риметы весны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1628640"/>
            <a:ext cx="69120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добиться успеха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изучении окружающего мира, 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 научиться открывать секреты природы.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004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21080" cy="301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2480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6732720" y="37162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пр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948360" y="2565360"/>
            <a:ext cx="800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87640" y="436572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47640" y="1989000"/>
            <a:ext cx="2514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на света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4941720"/>
            <a:ext cx="2495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на вод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9280" y="549360"/>
            <a:ext cx="34290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лёной трав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95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4:10:05Z</dcterms:created>
  <dc:creator>Sergey</dc:creator>
  <dc:description/>
  <dc:language>en-US</dc:language>
  <cp:lastModifiedBy>Sergey</cp:lastModifiedBy>
  <dcterms:modified xsi:type="dcterms:W3CDTF">2013-03-17T15:31:06Z</dcterms:modified>
  <cp:revision>49</cp:revision>
  <dc:subject/>
  <dc:title>Слайд 1</dc:title>
</cp:coreProperties>
</file>